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99904-B72E-49E7-BF9F-BD6DD2890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1A55A-1D67-454B-B34F-3D2E9199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68BB5-3155-4682-A28C-83993C019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62A24-313C-4AF1-967E-7159C66D1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FA81-A94C-4739-A88F-0874634A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9D32-CC5B-4B1C-95EC-1B89A00B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30AB-70A3-46A5-91DC-BBA145CB0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891B-7E40-45DE-9FA9-2AC12BADE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4865-FE1B-4E92-A446-E28B40ECF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A01B-9CBF-4678-918E-DE1D6EF4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9E95-7803-41A6-996A-8F303B982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A678-E135-4570-8DB6-783B88A42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ECC0-1AED-4D54-A057-24D11281F3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grayscl/>
          </a:blip>
          <a:stretch/>
        </p:blipFill>
        <p:spPr>
          <a:xfrm>
            <a:off x="5148360" y="981000"/>
            <a:ext cx="1439640" cy="134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1:35Z</dcterms:modified>
  <cp:revision>46</cp:revision>
  <dc:subject/>
  <dc:title>SALARIUL</dc:title>
</cp:coreProperties>
</file>